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50DD-C5E7-441E-9BDC-20E67A9B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8F8-DC95-41AB-A711-595FE463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34D-9A3E-4700-A213-0DCDCE94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21C-9009-43CC-B0C1-23C7C1C7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2E0B-DE60-4303-A9D6-162C63A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623-3111-4930-A9CC-47FF926D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8AB-0BB3-486E-90B5-BBCE66CE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624-D07F-4105-AB11-94B3BA57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BC1-1C97-4469-AF93-5BD386BF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C605-79BA-4A13-A189-94BABE02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017A-41C2-4F34-B897-0F73546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68F-F0B5-4B7D-B964-5BC9753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5B10-B8E3-425B-9D81-4AE730770E8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6000" spc="-1" strike="noStrike">
                <a:solidFill>
                  <a:srgbClr val="eaeaea"/>
                </a:solidFill>
                <a:latin typeface="Times New Roman"/>
              </a:rPr>
              <a:t>SILNIK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31828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eaeaea"/>
                </a:solidFill>
                <a:latin typeface="Times New Roman"/>
              </a:rPr>
              <a:t>opracował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ff"/>
                </a:solidFill>
                <a:latin typeface="Times New Roman"/>
              </a:rPr>
              <a:t>mgr  Ryszard Ostrowsk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38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aeaea"/>
                </a:solidFill>
                <a:latin typeface="Times New Roman"/>
              </a:rPr>
              <a:t>na podstawie podręcz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aeaea"/>
                </a:solidFill>
                <a:latin typeface="Times New Roman"/>
              </a:rPr>
              <a:t>autorstw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eaeaea"/>
                </a:solidFill>
                <a:latin typeface="Times New Roman"/>
              </a:rPr>
              <a:t>J. Kijewski, A. Miller, K. Pawlicki, T. Szol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aszynoznawstw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aeaea"/>
                </a:solidFill>
                <a:latin typeface="Times New Roman"/>
              </a:rPr>
              <a:t>Silniki turbospalin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występują jak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jedno-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 i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wielowirnikowe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(na ogół dwuwirnik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zasilane są paliwem ciekłym (nafta, olej napędowy, benzyna, lekkie destylaty ropy naftowe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w silnikach stosuje się jedno-  i  wielostopniowe (osiowe lub promieniowe) turbiny akcyjne lub reakcy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do zalet zaliczamy: łatwy rozruch z możliwością natychmiastowego obciążenia pełną mocą, płynną pracę, niewielkie wymiary (w stosunku do tłokowych silników spalinowych), małą wrażliwość na jakość paliwa, stosunkowo mała toksyczność spa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do wad zaliczamy: dużą prędkość obrotową turbiny, konieczność dokładnego wyważania wirników sprężarki i turbiny, znaczne jednostkowe zużycie pali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dddddd"/>
                </a:solidFill>
                <a:latin typeface="Times New Roman"/>
              </a:rPr>
              <a:t>silnik jednowirnikow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895120"/>
            <a:ext cx="2666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sprężarka promieni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komora spal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turb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wtryskiw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przekład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21-silnik%20turbospalinowy" descr=""/>
          <p:cNvPicPr/>
          <p:nvPr/>
        </p:nvPicPr>
        <p:blipFill>
          <a:blip r:embed="rId1"/>
          <a:stretch/>
        </p:blipFill>
        <p:spPr>
          <a:xfrm>
            <a:off x="4114800" y="2209680"/>
            <a:ext cx="43434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aeaea"/>
                </a:solidFill>
                <a:latin typeface="Times New Roman"/>
              </a:rPr>
              <a:t>Odrzutowe silniki przelo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stanowią pod względem budowy najprostszą odmianę silników spalin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energię chemiczną paliwa zamieniają na energię kinetyczną strumienia gazów tworzących tzw.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siłę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tlen pobierany jest z powiet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występują jak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sprężarkowe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(wyposażone w </a:t>
            </a:r>
            <a:r>
              <a:rPr b="0" i="1" lang="pl-PL" sz="2400" spc="-1" strike="noStrike">
                <a:solidFill>
                  <a:srgbClr val="dddddd"/>
                </a:solidFill>
                <a:latin typeface="Times New Roman"/>
              </a:rPr>
              <a:t>sprężarki odśrodkowe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lub </a:t>
            </a:r>
            <a:r>
              <a:rPr b="0" i="1" lang="pl-PL" sz="2400" spc="-1" strike="noStrike">
                <a:solidFill>
                  <a:srgbClr val="dddddd"/>
                </a:solidFill>
                <a:latin typeface="Times New Roman"/>
              </a:rPr>
              <a:t>osiowe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) i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bezsprężarkowe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(układy: </a:t>
            </a:r>
            <a:r>
              <a:rPr b="0" i="1" lang="pl-PL" sz="2400" spc="-1" strike="noStrike">
                <a:solidFill>
                  <a:srgbClr val="dddddd"/>
                </a:solidFill>
                <a:latin typeface="Times New Roman"/>
              </a:rPr>
              <a:t>pulsacyjne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 lub </a:t>
            </a:r>
            <a:r>
              <a:rPr b="0" i="1" lang="pl-PL" sz="2400" spc="-1" strike="noStrike">
                <a:solidFill>
                  <a:srgbClr val="dddddd"/>
                </a:solidFill>
                <a:latin typeface="Times New Roman"/>
              </a:rPr>
              <a:t>strumieniowe</a:t>
            </a: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w komorze spalania spalanie odbywa się w sposób ciągły (za wyjątkiem silnika pulsacyjneg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56120"/>
            <a:ext cx="38088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22-odrzutowy%20silnik%20przelotowy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6248520" cy="3416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81120" y="457200"/>
            <a:ext cx="3429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silnik ze sprężarką odśrodkow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silnik ze sprężarką osiow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silnik pulsacyj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silnik strumieniow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sprężar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komora spal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turb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dysza wylot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świe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skrzynia zaworó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wtryskiw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eaeaea"/>
                </a:solidFill>
                <a:latin typeface="Times New Roman"/>
              </a:rPr>
              <a:t>Silniki rakiet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2895120"/>
            <a:ext cx="8153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stosowane do napędu samolotów wysokościowych i pojazdów kosmicz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wraz ze wzrostem wysokości ich siła ciągu rośnie (maleje opór środowiska w jakim pracują – powietrza, przy jednocześnie nie zmieniającym się zużyciu paliw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dddddd"/>
                </a:solidFill>
                <a:latin typeface="Times New Roman"/>
              </a:rPr>
              <a:t>zasilane są paliwem stałym lub ciekły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500" spc="-1" strike="noStrike">
                <a:solidFill>
                  <a:srgbClr val="dddddd"/>
                </a:solidFill>
                <a:latin typeface="Times New Roman"/>
              </a:rPr>
              <a:t>silniki zasilane paliwem stałym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34286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c0c0"/>
                </a:solidFill>
                <a:latin typeface="Times New Roman"/>
              </a:rPr>
              <a:t>materiał pędny (paliwo i utleniacz) znajduje się w komorze spal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c0c0"/>
                </a:solidFill>
                <a:latin typeface="Times New Roman"/>
              </a:rPr>
              <a:t>zapłon następuje w wyniku zadziałania zapalnik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c0c0"/>
                </a:solidFill>
                <a:latin typeface="Times New Roman"/>
              </a:rPr>
              <a:t>budowa dyszy odrzutowej powoduje wzrost prędkości gazów spalinowy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500" spc="-1" strike="noStrike">
                <a:solidFill>
                  <a:srgbClr val="dddddd"/>
                </a:solidFill>
                <a:latin typeface="Times New Roman"/>
              </a:rPr>
              <a:t>silniki zasilane paliwem ciekłym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c0c0"/>
                </a:solidFill>
                <a:latin typeface="Times New Roman"/>
              </a:rPr>
              <a:t>materiał pędny (paliwo i utleniacz) znajduje się w odrębnych zbiornik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c0c0"/>
                </a:solidFill>
                <a:latin typeface="Times New Roman"/>
              </a:rPr>
              <a:t>ich mieszanie następuje w komorze spalan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c0c0c0"/>
                </a:solidFill>
                <a:latin typeface="Times New Roman"/>
              </a:rPr>
              <a:t>przetłoczenie paliwa i utleniacza odbywa się dzięki gazowemu czynnikowi tłoczącemu zmagazynowanemu w odrębnym zbiorniku lub układom turbopom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-539388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43600" y="1676160"/>
            <a:ext cx="2819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na paliwo stał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33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3300"/>
                </a:solidFill>
                <a:latin typeface="Times New Roman"/>
              </a:rPr>
              <a:t>na paliwo pły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zapaln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korp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komora spalan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paliwo stał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rus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dysza odrzut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wtryskiwacze utleniac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wtryskiwacz pali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zaw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paliwo ciekł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utleniac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400"/>
              </a:spcBef>
              <a:buClr>
                <a:srgbClr val="ff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6600"/>
                </a:solidFill>
                <a:latin typeface="Times New Roman"/>
              </a:rPr>
              <a:t>zbiornik gazu tłoczące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23-silnik%20rakietowy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4100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strowski Ryszard</cp:lastModifiedBy>
  <dcterms:modified xsi:type="dcterms:W3CDTF">2004-05-13T15:43:24Z</dcterms:modified>
  <cp:revision>18</cp:revision>
  <dc:subject/>
  <dc:title>PowerPoint Presentation</dc:title>
</cp:coreProperties>
</file>